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C85-F7A9-47E9-A436-A3BC4BB4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CBB-930C-43D5-80BB-40FBD3C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735-7E9B-47BE-88AB-1A25C7EF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065-891F-4A1B-A4DA-96EDA125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763-088F-4B3E-B0D1-FF49E697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C94-2F62-4EEF-AAD2-7BA9EE9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637-DCFB-4A3C-AE76-27FA491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839-FAF7-47DA-BE6A-F4ED8C07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675-5E10-4161-A616-3F5D4C16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B28-C493-4100-AE2F-9EFB34F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28F-6E5A-459E-9E10-58FB73A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019-F035-41D7-9E26-C7A7B3B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8D9-C719-44EB-880F-64327D77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219320"/>
            <a:ext cx="3124080" cy="3200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838080"/>
            <a:ext cx="830592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1295280"/>
            <a:ext cx="160020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2743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352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724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029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5334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57200"/>
            <a:ext cx="16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57200"/>
            <a:ext cx="2209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57200"/>
            <a:ext cx="3886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 zero/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1143000"/>
            <a:ext cx="335304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6880" y="1219320"/>
            <a:ext cx="1308240" cy="312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97080" y="1219320"/>
            <a:ext cx="130824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85800"/>
            <a:ext cx="1676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685800"/>
            <a:ext cx="2210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685800"/>
            <a:ext cx="3886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 zero/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143000"/>
            <a:ext cx="335304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676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743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809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1676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7432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809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676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743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809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85800"/>
            <a:ext cx="1676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685800"/>
            <a:ext cx="2210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685800"/>
            <a:ext cx="3886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 zero/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765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8288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810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2860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4382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5909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32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954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81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2004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3526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5053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6576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9625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2670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094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621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144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0666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3716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238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8288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810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337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909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954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04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5268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57600" y="1219320"/>
            <a:ext cx="0" cy="320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3200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8:25:07Z</dcterms:created>
  <dc:creator>hottin.lkj</dc:creator>
  <dc:description/>
  <dc:language>en-US</dc:language>
  <cp:lastModifiedBy>hottin.lkj</cp:lastModifiedBy>
  <dcterms:modified xsi:type="dcterms:W3CDTF">2014-04-28T18:36:20Z</dcterms:modified>
  <cp:revision>2</cp:revision>
  <dc:subject/>
  <dc:title>Slide 1</dc:title>
</cp:coreProperties>
</file>